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DRUMROLL.WAV" ContentType="audio/x-wav"/>
  <Override PartName="/ppt/media/image4.jpeg" ContentType="image/jpe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1B18-F408-4A80-8727-DD8C9E65AB6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rannosaurus R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g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teranod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locira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esiosaur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1FB-6D75-422D-A7B5-35F9EC04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DEEC-DB03-4BF8-8CA8-8EEE0727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E06-061D-453C-B286-B4AD21640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918-43B2-42A1-A343-2A757218A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5376C-FA40-454A-A248-BCDB02D36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169DB-1FCC-4766-B21F-A04F7BF5B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7B06-288C-42B5-9820-4966425D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CDE8-477D-4B28-9E3D-5F5B8872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5E7C-424F-438E-8093-40C3104B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7EC-FD10-49FB-8DBD-ADF14E39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4366B-11D8-42AC-82E1-F55779DF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BFD2-ED4D-4668-974A-DB13FD78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0A2C-BD32-4305-89DC-BCB76C17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5A442-1AA4-456E-A5BE-9D13B0E5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0726B-7C8E-47D6-9F51-C28983C1A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B79C-95CC-432D-B800-41A999680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1675-994E-4615-97E7-22638A8D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8851C-3523-474D-9F7F-7CF04FEB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15B6F-4421-49E3-911E-33C7F0DE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65BF6-6636-4C2A-8BBA-F1F6B051F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7EF97-617B-47BF-8131-A5E1F1E5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23900-D225-452B-8FF9-519995F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A306-40BC-4E00-9FA6-73D6CAF0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C9A7B-2020-4543-8019-C8382D69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0A0D2-CB87-4200-8D95-BF1EEFCC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27EF3-84DE-4C07-A7E0-F9872AC3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E1B2-0738-423E-A3C0-58CEB4CE8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806B0-6E38-42B4-B2AA-0A7C24B2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89019-DD45-4DF7-9ADB-771382871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1C35B-DAC6-484C-8F3B-414D917DA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160ED-BB2D-46CA-A25C-F76E5D58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F4FC-15E8-4443-A9B6-DC5011D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2CCF0-4AC8-4901-8C31-D3E0DB6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FF8-1AB3-4E98-9192-55D7EFC0F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4544-AEF0-4174-B095-F09D8F97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4D7D-C673-4B94-A213-645C2177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2A0F6-EB89-4900-998C-970DBA62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5B583-7018-4620-A1F8-241F365A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2F77A-6A5C-4BC8-B611-902A9976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97EEAB-A71A-4256-8C53-8F9B01C83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A863-3961-4D49-8260-99082F9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9DCA-7C78-45FB-802D-0C0E60A8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82F5B-AB19-475D-8FB7-23F8B929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91629-E077-4A2D-B714-DB4A328C9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DCF7-A420-4DC4-9F7D-5E8C5501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7B39D-01E5-429A-9321-5E64887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07F82-3854-4DA6-B95F-8525033C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ABECC-9E73-47C6-8E7D-D52C4026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91283C-68FE-44D1-8D48-AC40DB13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AC48-BFCC-4CD0-9F12-D4AE843B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2667D4-5F03-4FCA-9433-5DACEA28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D10C-7ECE-4819-A6E2-E71EFAB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CF38-80EC-46D5-A298-B4A9D9B1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729CF-7EA0-4DC7-8FB4-ECCD2B56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E3D47-A003-4BAA-8806-B889AE69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171-E2BA-441E-8C3B-2C815BAD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BCF7C-4C8D-42CF-A612-57DC756BC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65AEA-2DF0-4CE8-9ECF-E3EAB6F8F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97D74-AAF5-4D74-BCCA-EC22B3D8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7F2AC-CE7A-450B-A2AD-542709A1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ACD8DF-03A9-45AC-9B6C-720AF9C1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253C9-E3AE-4190-BD15-1B6959BBC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556EE-0910-454C-8E91-F1302A7E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7935E-E6F5-4FBA-8377-EEB3FEC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0F5D30-1E54-4909-97F4-EF87AAD8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094350-E143-4303-847A-1AB0CBB9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5778-10B8-4B9A-8A05-C4B0682C3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EE64C-EC06-489D-B555-75A529851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B6C5E-EC08-4D5C-98AC-0635B57E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ECFC9-25F6-4791-8CB7-DFED521C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F4B41-BC7D-4A62-83F1-0C787AB5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DC970-D13E-48B0-84F6-3C1342DF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330A2-54CE-49D7-965B-0ADF2C63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C61C3-1718-480A-BA4C-10E8CDAD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6E35-2783-415B-9EBF-B99AE9A6F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F372B-7AD2-4ADB-91A9-37BFA0AB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B401E-71D2-4637-B659-499337C4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369E-32E5-4053-AFF1-109CDF35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1017-2F92-4169-A62B-87118ECE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9D754-999A-43A5-8AA8-AD6BD3D6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128A4-4104-4350-BA29-DAE1BC2C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271F9-A46D-4D2F-9253-B6614A27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F0355-C41F-49DC-BDA3-B634B57D0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DDEC-9F30-4EA9-BCE2-81206404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BE3F-C497-4952-9CCD-5A6E413AC74A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9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2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3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5C55-B1B1-428B-BB2E-516946D869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2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Прямоугольник 13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5F22-D6E2-4C20-9507-80EB721E66B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12F71-794E-474F-9EEC-25A41012C721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77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12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13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F9DD-B9F7-4435-AD09-FB79168457D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0" y="6553080"/>
            <a:ext cx="6934320" cy="304920"/>
          </a:xfrm>
          <a:prstGeom prst="rect">
            <a:avLst/>
          </a:prstGeom>
          <a:solidFill>
            <a:srgbClr val="007635"/>
          </a:solidFill>
          <a:ln w="4788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opyright of  www.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kemegeniu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.com, for more videos ,visit 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1" descr="C:\Documents and Settings\sonal.krishna\Desktop\mmg\Picture1.jpg"/>
          <p:cNvPicPr/>
          <p:nvPr/>
        </p:nvPicPr>
        <p:blipFill>
          <a:blip r:embed="rId2"/>
          <a:stretch/>
        </p:blipFill>
        <p:spPr>
          <a:xfrm>
            <a:off x="6934320" y="594360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225" name="Minus 8"/>
          <p:cNvSpPr/>
          <p:nvPr/>
        </p:nvSpPr>
        <p:spPr>
          <a:xfrm>
            <a:off x="1447920" y="685800"/>
            <a:ext cx="8839080" cy="380880"/>
          </a:xfrm>
          <a:custGeom>
            <a:avLst/>
            <a:gdLst/>
            <a:ahLst/>
            <a:rect l="l" t="t" r="r" b="b"/>
            <a:pathLst>
              <a:path w="8839200" h="381000">
                <a:moveTo>
                  <a:pt x="1171636" y="145694"/>
                </a:moveTo>
                <a:lnTo>
                  <a:pt x="7667564" y="145694"/>
                </a:lnTo>
                <a:lnTo>
                  <a:pt x="7667564" y="235306"/>
                </a:lnTo>
                <a:lnTo>
                  <a:pt x="1171636" y="235306"/>
                </a:lnTo>
                <a:lnTo>
                  <a:pt x="1171636" y="145694"/>
                </a:lnTo>
                <a:close/>
              </a:path>
            </a:pathLst>
          </a:custGeom>
          <a:solidFill>
            <a:srgbClr val="007635"/>
          </a:solidFill>
          <a:ln w="4788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Прямоугольник 12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13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094E-345F-4BF5-B7DC-6640262D5AE8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2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13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0F898-3F03-4DAC-AE0E-3E35109D2BB3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H:\Dinosaurs\tyrannos.jpg"/>
          <p:cNvPicPr/>
          <p:nvPr/>
        </p:nvPicPr>
        <p:blipFill>
          <a:blip r:embed="rId1"/>
          <a:stretch/>
        </p:blipFill>
        <p:spPr>
          <a:xfrm>
            <a:off x="2743200" y="1066680"/>
            <a:ext cx="6400800" cy="387036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5"/>
          <p:cNvSpPr/>
          <p:nvPr/>
        </p:nvSpPr>
        <p:spPr>
          <a:xfrm>
            <a:off x="0" y="5029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huge dinosaur is called the Tyrannosaurus Rex.  It was a meat –eating dinosaur.  It had tiny arms each with two fingers.  The T. Rex could eat 500 lbs. of meat and bones at one time!  It weighed about 5 to 7 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3239280" y="76320"/>
            <a:ext cx="522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Tyrannosaurus R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2" descr="H:\Dinosaurs\stegosaurus.jpg"/>
          <p:cNvPicPr/>
          <p:nvPr/>
        </p:nvPicPr>
        <p:blipFill>
          <a:blip r:embed="rId1"/>
          <a:stretch/>
        </p:blipFill>
        <p:spPr>
          <a:xfrm>
            <a:off x="2666880" y="914400"/>
            <a:ext cx="6477120" cy="342900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3"/>
          <p:cNvSpPr/>
          <p:nvPr/>
        </p:nvSpPr>
        <p:spPr>
          <a:xfrm>
            <a:off x="228600" y="464832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228600" y="4775040"/>
            <a:ext cx="868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dinosaur is a Stegosaurus.  It is a plant eating dinosaur.  It has a small brain that is only the size of  a walnut.  It has 17 bony plates that runs down it’s back.  The back legs of the Stegosaurus are twice as long as the front leg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3735000" y="15228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Forte"/>
              </a:rPr>
              <a:t>Stego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Нижний колонтитул 5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H:\Dinosaurs\pterobig.gif"/>
          <p:cNvPicPr/>
          <p:nvPr/>
        </p:nvPicPr>
        <p:blipFill>
          <a:blip r:embed="rId1"/>
          <a:stretch/>
        </p:blipFill>
        <p:spPr>
          <a:xfrm>
            <a:off x="2590920" y="914400"/>
            <a:ext cx="6553080" cy="39625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457200" y="51055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flying reptile is a Pteranodon and it means “Winged and Toothless.”  It’s wingspan is 25-30 ft. long and it’s weight is about 55 lbs.  A crest is on his head and it has a really short tail.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5"/>
          <p:cNvSpPr/>
          <p:nvPr/>
        </p:nvSpPr>
        <p:spPr>
          <a:xfrm>
            <a:off x="4251240" y="76320"/>
            <a:ext cx="329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teranod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H:\Dinosaurs\Velocira.gif"/>
          <p:cNvPicPr/>
          <p:nvPr/>
        </p:nvPicPr>
        <p:blipFill>
          <a:blip r:embed="rId1"/>
          <a:srcRect l="0" t="1536" r="4753" b="13408"/>
          <a:stretch/>
        </p:blipFill>
        <p:spPr>
          <a:xfrm>
            <a:off x="2666880" y="990720"/>
            <a:ext cx="6477120" cy="344808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3"/>
          <p:cNvSpPr/>
          <p:nvPr/>
        </p:nvSpPr>
        <p:spPr>
          <a:xfrm>
            <a:off x="609480" y="4619520"/>
            <a:ext cx="7925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Velociraptor was a meat-eating dinosaur.  It might have been able to run up to 40 mph for short runs.  It was estimated to be about 5 to 6 ft.long and about 3 ft. tall.  It had a very stiff tail to let it make very sharp turns.  The Velociraptor was one of the smartest dinosaur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Box 5"/>
          <p:cNvSpPr/>
          <p:nvPr/>
        </p:nvSpPr>
        <p:spPr>
          <a:xfrm>
            <a:off x="3746880" y="152280"/>
            <a:ext cx="3388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Velocirap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H:\Dinosaurs\plesiosaurus_normal.jpg"/>
          <p:cNvPicPr/>
          <p:nvPr/>
        </p:nvPicPr>
        <p:blipFill>
          <a:blip r:embed="rId1"/>
          <a:srcRect l="5311" t="0" r="7965" b="0"/>
          <a:stretch/>
        </p:blipFill>
        <p:spPr>
          <a:xfrm>
            <a:off x="1676520" y="914400"/>
            <a:ext cx="7467480" cy="402732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3"/>
          <p:cNvSpPr/>
          <p:nvPr/>
        </p:nvSpPr>
        <p:spPr>
          <a:xfrm>
            <a:off x="914400" y="502920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is a Plesiosaurus and Plesiosaurus means  “near lizard.”  It was roughly 7.6 ft. long and weighed about 200 lbs.  This dinosaur had a short tail, small head, and its front flippers were longer than its back flipper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Box 5"/>
          <p:cNvSpPr/>
          <p:nvPr/>
        </p:nvSpPr>
        <p:spPr>
          <a:xfrm>
            <a:off x="3564360" y="76320"/>
            <a:ext cx="350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Forte"/>
              </a:rPr>
              <a:t>Plesiosaur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horz"/>
    <p:sndAc>
      <p:stSnd>
        <p:snd r:embed="rId2" name="DRUMROLL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7T18:56:08Z</dcterms:created>
  <dc:creator>Spring Cove School District</dc:creator>
  <dc:description/>
  <dc:language>en-US</dc:language>
  <cp:lastModifiedBy>LEGION</cp:lastModifiedBy>
  <dcterms:modified xsi:type="dcterms:W3CDTF">2018-03-12T09:05:55Z</dcterms:modified>
  <cp:revision>24</cp:revision>
  <dc:subject/>
  <dc:title>PowerPoint Presentation</dc:title>
</cp:coreProperties>
</file>